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B3B8-8951-43ED-B7BC-A84EECEF84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  :20</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27F3-6616-46E1-893E-F83D1652E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 small groups  :35</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6AD5-647D-4180-8B78-A1A270AE6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26B7-F552-4FD6-9B3A-9C4F039D422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minutes  :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alyze and contrast the languages: What are the patterns of grammar, and how does that grammar relate to usage (prag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4CE0-3AA1-41E6-A0ED-7E7ADD3B1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0B05-3607-4492-AD52-287F043B1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in</a:t>
            </a:r>
            <a:r>
              <a:rPr b="0" lang="en-US" sz="1200" spc="-1" strike="noStrike">
                <a:solidFill>
                  <a:srgbClr val="000000"/>
                </a:solidFill>
                <a:latin typeface="Calibri"/>
              </a:rPr>
              <a:t>	</a:t>
            </a:r>
            <a:r>
              <a:rPr b="0" lang="en-US" sz="1200" spc="-1" strike="noStrike">
                <a:solidFill>
                  <a:srgbClr val="000000"/>
                </a:solidFill>
                <a:latin typeface="Calibri"/>
              </a:rPr>
              <a:t>: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give examples of how students use the cueing systems in a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0 min [ 10:30a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2EAC-7CCE-4AAE-9AF0-4CBEBA452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2BD2-EF6C-4C7E-93EE-C8989A77D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10A3-BE1F-49AE-A812-F80F96EFF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8FBC-E413-4787-8951-B24EF6D3F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10:49</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ility of adding time to next week for inquiry groups, or adding a class on Friday since we lost time last week.  Maybe 30 min. so they have time to meet in their inquiry groups.  </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66C1-77A1-4F1D-8C50-C7F2E52E3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8:02</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1A71-B7CC-463E-8CD2-BE5889C70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in./</a:t>
            </a:r>
            <a:r>
              <a:rPr b="1" lang="en-US" sz="1200" spc="-1" strike="noStrike">
                <a:solidFill>
                  <a:srgbClr val="000000"/>
                </a:solidFill>
                <a:latin typeface="Arial"/>
              </a:rPr>
              <a:t>10:5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anguage resources, or cuing systems, are these 2nd grade readers utilizing? - 5-10 min. in groups</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each.</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reader(s) would benefit from phonics instruction? OR remediation? What other information do you ne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reader 3 read it like that in his literature circle group?  What about in a guided reading group?  What about in a lesson that was explicitly focused on Standard English grammar? What does this say about who he is becom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o assess a student’s use of the pragmatic cuing system, we have to take into account the larger context of the activity, including it’s setting, purpose, and the other participa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F8CF-712F-402B-B020-1C68861E6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min: jigsaw  10/1: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 large group discussion  10/1:45</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0FB0-FEEA-4768-BA1F-369AE5FCF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06B2-A596-4EB9-BE3D-E151D2A6B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is part by showing different aspects of the CAP test on overhead or by showing vide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 (10 min. of video; 10 for discuss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or detectio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nurturing a trusting relationship</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struct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2:07</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06E9-E663-4487-9F34-A864DE021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B9A3-AB3B-4127-A7D3-2F3977402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nd review them and connect them to the idea of multimod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0B9F-2E33-4410-BC87-0D6541353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a:t>
            </a:r>
            <a:r>
              <a:rPr b="0" lang="en-US" sz="1200" spc="-1" strike="noStrike">
                <a:solidFill>
                  <a:srgbClr val="000000"/>
                </a:solidFill>
                <a:latin typeface="Calibri"/>
              </a:rPr>
              <a:t>sibly add exampl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800A-3E0F-4114-9050-6CF618EFC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15</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E18D-3970-4222-86FA-1DC122E61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D8D2C-AE47-4446-A897-500591D1A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2DACA-0634-4B09-A0F7-8803CA1EB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9DA42-783F-4227-8FBC-953AD70C0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3983A-F442-4263-AA22-8BCF45C39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1DEC8-EE5D-454C-8A60-04D9FC2BC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3CD58-DD12-4199-9829-DC0E30AA8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F3709-8CDD-49F7-BBF2-2AB04D580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AB2D1-B863-4C3C-881E-0DA76782D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E98AF-0504-48D3-98EB-3FC3CAEE5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DD5C-10E9-4E8A-9C0C-37DEA3A33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3D900-F70F-4E27-840F-59FEC7BEC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09001-A285-491E-9A30-9CCC2C39C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88ED2-9B40-4ADA-8916-BC411CC82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81229-F509-419B-8121-FDB41A16B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15F2C-70C6-4BB2-9C39-1D3E00080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C95F3-BDDA-4601-84DC-0A577B397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0300-40AC-4166-B65B-F9292D892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C421F1-F601-4FA3-B9A3-2BF3C2F6E4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01F37-36DB-46AF-97E7-AFAA6A1F9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345D9-5A22-44BD-994E-BA1C0A708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90346-D2E4-4735-954A-3EDA4B288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C4F67-D04F-4AB0-A4E2-AEE8B41B5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89A0-4BAC-459C-96C3-0B589C200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7348F-3F78-4A21-9A6E-62C5497BB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01DB2-7D1B-48F7-9F56-B838B05D5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0EB33-B797-4D30-8914-F8BF4E9E4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F9268-1D46-4590-8D2E-A70E3FBC4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67173-5F1C-43D6-8672-6E4585E06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4F538-60FC-484F-BD4C-E244BC901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3CB90-B56C-4384-8EBB-ACEB11A5B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9A920-CD75-46F2-91C4-D97CC849B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AD77F-AEAA-44F6-9206-601579415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D3FDD-C247-421E-B09F-5CCD2B67F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8672-022E-4A4B-892B-6243978C7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23513-85EA-456D-BFAB-B0496F302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F46B8-873F-4D3D-8DE2-2876A189A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83C3F-5020-4B8E-9035-E5CC9DB1F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52E36-CD69-47AF-9DBE-A8DB10F04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6BF14-2A45-4B72-8E11-8692981B1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2D8C5A-7ADF-44F5-A74F-D353BCEEA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25FFA-5FA4-4225-89E3-454A89BDB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E861C3-7B9B-4855-9805-7749C3266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49BE14-90CD-4098-82EB-E87C3D65E8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E48A-4058-43F4-B221-23800A28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59CF-A370-4723-A584-2F4531D6E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B959-A09D-4721-B44F-AB57DF01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BD79C-8F76-4FAB-B908-4203B4FB0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8145-AE5A-4B7C-97C2-E5F4E08DB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BEA7-AE1A-400A-BB08-B3D1C297A72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7EA8-9F43-428D-B47E-0A6283EF490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946F-3485-46EA-8182-7EB35295ABD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FB9B-3AE2-495E-B819-59AA786C82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Come in and be sure to sign in</a:t>
            </a:r>
            <a:endParaRPr b="0" lang="en-US" sz="4000" spc="-1" strike="noStrike">
              <a:solidFill>
                <a:srgbClr val="ffffff"/>
              </a:solidFill>
              <a:latin typeface="Constantia"/>
            </a:endParaRPr>
          </a:p>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a:bodyPr>
          <a:p>
            <a:pPr marL="95400" indent="792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o Defines the Standard</a:t>
            </a:r>
            <a:r>
              <a:rPr b="0" i="1" lang="en-US" sz="2800" spc="-1" strike="noStrike">
                <a:solidFill>
                  <a:srgbClr val="000000"/>
                </a:solidFill>
                <a:latin typeface="Constantia"/>
              </a:rPr>
              <a:t>“</a:t>
            </a:r>
            <a:endParaRPr b="0" lang="en-US" sz="2800" spc="-1" strike="noStrike">
              <a:solidFill>
                <a:srgbClr val="000000"/>
              </a:solidFill>
              <a:latin typeface="Constantia"/>
            </a:endParaRPr>
          </a:p>
          <a:p>
            <a:pPr lvl="1" marL="352440" indent="79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t is axiomatic that if Black people were in power in this country, Black English would be the prestige idiom.  This is a point which cannot be stressed too often, for frequently we find even Black students themselves with a negative image of they speech.  They too have been brainwashed about the ‘inherent and Absolute rightness’ of white, middle-class dialect”  (Smitherman, 2000, pp. 128-129).</a:t>
            </a:r>
            <a:endParaRPr b="0" lang="en-US" sz="2400" spc="-1" strike="noStrike">
              <a:solidFill>
                <a:srgbClr val="000000"/>
              </a:solidFill>
              <a:latin typeface="Constantia"/>
            </a:endParaRPr>
          </a:p>
          <a:p>
            <a:pPr marL="95400" indent="792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95400" indent="792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cause historically people with means (i.e. rich people,white people, and people from the north) have been in power, their ways of speaking have become the “standard” on which all other forms are judged.</a:t>
            </a:r>
            <a:endParaRPr b="0" lang="en-US" sz="2800" spc="-1" strike="noStrike">
              <a:solidFill>
                <a:srgbClr val="000000"/>
              </a:solidFill>
              <a:latin typeface="Constantia"/>
            </a:endParaRPr>
          </a:p>
          <a:p>
            <a:pPr marL="95400" indent="79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deswitching</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deswitching discussion</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the discussion organizer that you completed while reading, please discuss the reading in your small group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sure to discuss the nine questions on your discussion notes form</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will come back as a large group to touch on your small group discuss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essive Patterns</a:t>
            </a:r>
            <a:endParaRPr b="0" lang="en-US" sz="5000" spc="-1" strike="noStrike">
              <a:solidFill>
                <a:srgbClr val="04617b"/>
              </a:solidFill>
              <a:latin typeface="Calibri"/>
            </a:endParaRPr>
          </a:p>
        </p:txBody>
      </p:sp>
      <p:sp>
        <p:nvSpPr>
          <p:cNvPr id="227" name="PlaceHolder 2"/>
          <p:cNvSpPr>
            <a:spLocks noGrp="1"/>
          </p:cNvSpPr>
          <p:nvPr>
            <p:ph/>
          </p:nvPr>
        </p:nvSpPr>
        <p:spPr>
          <a:xfrm>
            <a:off x="457200" y="1481040"/>
            <a:ext cx="4038480" cy="452592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Informal English</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ylor cat is black.</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oy coat is tor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iraffe neck is long.</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you see the teacher pe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ttern: owner + owned</a:t>
            </a:r>
            <a:endParaRPr b="0" lang="en-US" sz="2600" spc="-1" strike="noStrike">
              <a:solidFill>
                <a:srgbClr val="000000"/>
              </a:solidFill>
              <a:latin typeface="Constantia"/>
            </a:endParaRPr>
          </a:p>
        </p:txBody>
      </p:sp>
      <p:sp>
        <p:nvSpPr>
          <p:cNvPr id="228" name="PlaceHolder 3"/>
          <p:cNvSpPr>
            <a:spLocks noGrp="1"/>
          </p:cNvSpPr>
          <p:nvPr>
            <p:ph/>
          </p:nvPr>
        </p:nvSpPr>
        <p:spPr>
          <a:xfrm>
            <a:off x="4648320" y="1828800"/>
            <a:ext cx="3962160" cy="457200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Formal English</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ylor’s cat is black</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oy’s coat is tor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iraffe’s neck is long.</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you see the teacher’s pe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ttern: owner (+apostrophe-s) +</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wn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gage in role play to lower the affective filter</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sition, your students as linguist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less the focus of your lesson is on an aspect of Standard English grammar, do not comment on students’ language form.</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 grammatical differences </a:t>
            </a:r>
            <a:r>
              <a:rPr b="0" i="1" lang="en-US" sz="2800" spc="-1" strike="noStrike">
                <a:solidFill>
                  <a:srgbClr val="000000"/>
                </a:solidFill>
                <a:latin typeface="Constantia"/>
              </a:rPr>
              <a:t>in formal and informal mini-lesson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Contrastive Analysis</a:t>
            </a:r>
            <a:endParaRPr b="0" lang="en-US" sz="28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grammar for patterns</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st; not correction</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 children and signal to them when they need to “flip the switch,” or codeswitch</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tructional implication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How do children use the </a:t>
            </a:r>
            <a:br>
              <a:rPr sz="4000"/>
            </a:br>
            <a:r>
              <a:rPr b="0" lang="en-US" sz="4000" spc="-1" strike="noStrike">
                <a:solidFill>
                  <a:srgbClr val="04617b"/>
                </a:solidFill>
                <a:latin typeface="Calibri"/>
              </a:rPr>
              <a:t>cueing systems?</a:t>
            </a:r>
            <a:endParaRPr b="0" lang="en-US" sz="4000" spc="-1" strike="noStrike">
              <a:solidFill>
                <a:srgbClr val="04617b"/>
              </a:solidFill>
              <a:latin typeface="Calibri"/>
            </a:endParaRPr>
          </a:p>
        </p:txBody>
      </p:sp>
      <p:sp>
        <p:nvSpPr>
          <p:cNvPr id="232" name="PlaceHolder 2"/>
          <p:cNvSpPr>
            <a:spLocks noGrp="1"/>
          </p:cNvSpPr>
          <p:nvPr>
            <p:ph/>
          </p:nvPr>
        </p:nvSpPr>
        <p:spPr>
          <a:xfrm>
            <a:off x="457200" y="1981080"/>
            <a:ext cx="8229600" cy="41911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ective teachers know that children use all four cueing systems when engaged in literacy activitie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ever, in any given circumstance, when trying to decipher a difficult text, one cueing system might be emphasized or relied upon more than the other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yntactic System</a:t>
            </a:r>
            <a:endParaRPr b="0" lang="en-US" sz="5000" spc="-1" strike="noStrike">
              <a:solidFill>
                <a:srgbClr val="04617b"/>
              </a:solidFill>
              <a:latin typeface="Calibri"/>
            </a:endParaRPr>
          </a:p>
        </p:txBody>
      </p:sp>
      <p:sp>
        <p:nvSpPr>
          <p:cNvPr id="234" name="PlaceHolder 2"/>
          <p:cNvSpPr>
            <a:spLocks noGrp="1"/>
          </p:cNvSpPr>
          <p:nvPr>
            <p:ph/>
          </p:nvPr>
        </p:nvSpPr>
        <p:spPr>
          <a:xfrm>
            <a:off x="456840" y="2133720"/>
            <a:ext cx="8534520" cy="441936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words and parts of words are combined into sentences</a:t>
            </a:r>
            <a:endParaRPr b="0" lang="en-US" sz="28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d order</a:t>
            </a:r>
            <a:r>
              <a:rPr b="0" lang="en-US" sz="2000" spc="-1" strike="noStrike">
                <a:solidFill>
                  <a:srgbClr val="000000"/>
                </a:solidFill>
                <a:latin typeface="Constantia"/>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se</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umber</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nder</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words and parts of speech go together to sound like meaningful languag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ructural rules of a language--grammar</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honological System</a:t>
            </a:r>
            <a:endParaRPr b="0" lang="en-US" sz="5000" spc="-1" strike="noStrike">
              <a:solidFill>
                <a:srgbClr val="04617b"/>
              </a:solidFill>
              <a:latin typeface="Calibri"/>
            </a:endParaRPr>
          </a:p>
        </p:txBody>
      </p:sp>
      <p:sp>
        <p:nvSpPr>
          <p:cNvPr id="236" name="PlaceHolder 2"/>
          <p:cNvSpPr>
            <a:spLocks noGrp="1"/>
          </p:cNvSpPr>
          <p:nvPr>
            <p:ph/>
          </p:nvPr>
        </p:nvSpPr>
        <p:spPr>
          <a:xfrm>
            <a:off x="380880" y="2057400"/>
            <a:ext cx="8763120" cy="4495680"/>
          </a:xfrm>
          <a:prstGeom prst="rect">
            <a:avLst/>
          </a:prstGeom>
          <a:noFill/>
          <a:ln w="0">
            <a:noFill/>
          </a:ln>
        </p:spPr>
        <p:txBody>
          <a:bodyPr anchor="t">
            <a:normAutofit fontScale="99000"/>
          </a:bodyPr>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ymbol systems of oral and written language and the relationship between them.  </a:t>
            </a: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honics – Relationship between phonological and orthographic (spelling) systems (letter-sound correspondence)</a:t>
            </a: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s cueing system deals with the smallest chunks of language:</a:t>
            </a:r>
            <a:endParaRPr b="0" lang="en-US" sz="28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onemes (units of sound)</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phemes (units of written representation of phonem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mantic System</a:t>
            </a: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ationships between language and meaning, the heart of languag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cus is on vocabulary: What words and phrases mean</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onyms, antonyms, homonyms</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rongly related to social and cultural group</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da vs. pop</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lk shake vs. frapp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 vs. hoagie</a:t>
            </a:r>
            <a:endParaRPr b="0" lang="en-US" sz="24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ragmatic System</a:t>
            </a:r>
            <a:endParaRPr b="0" lang="en-US" sz="4000" spc="-1" strike="noStrike">
              <a:solidFill>
                <a:srgbClr val="04617b"/>
              </a:solidFill>
              <a:latin typeface="Calibri"/>
            </a:endParaRPr>
          </a:p>
        </p:txBody>
      </p:sp>
      <p:sp>
        <p:nvSpPr>
          <p:cNvPr id="240" name="PlaceHolder 2"/>
          <p:cNvSpPr>
            <a:spLocks noGrp="1"/>
          </p:cNvSpPr>
          <p:nvPr>
            <p:ph/>
          </p:nvPr>
        </p:nvSpPr>
        <p:spPr>
          <a:xfrm>
            <a:off x="685800" y="2133720"/>
            <a:ext cx="7772400" cy="3962160"/>
          </a:xfrm>
          <a:prstGeom prst="rect">
            <a:avLst/>
          </a:prstGeom>
          <a:noFill/>
          <a:ln w="0">
            <a:noFill/>
          </a:ln>
        </p:spPr>
        <p:txBody>
          <a:bodyPr anchor="t">
            <a:normAutofit fontScale="97000"/>
          </a:bodyPr>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unction of language: Dependent on the social, cultural, and historical contexts of language use</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we know about how and when to change language to particular social settings</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a:r>
            <a:r>
              <a:rPr b="0" lang="en-US" sz="2800" spc="-1" strike="noStrike">
                <a:solidFill>
                  <a:srgbClr val="000000"/>
                </a:solidFill>
                <a:latin typeface="Constantia"/>
              </a:rPr>
              <a:t>Is your mother there?” (in a phone conversation) – implies “I’d like to speak to your mother.”</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 next time</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L:  Ch 21-2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nning Records and Miscue Analy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s for today</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aningful and Constructive Litera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ing Concepts about pr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deswitch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ing diverse learn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6fc6"/>
                </a:solidFill>
                <a:uFillTx/>
                <a:latin typeface="Calibri"/>
              </a:rPr>
              <a:t>Text: Sarah’s brother, who was only twelve and didn’t yet know how to drive, crashed the car on the side of the street.</a:t>
            </a:r>
            <a:endParaRPr b="0" lang="en-US" sz="28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1: Sarah’s brother, who was only twelve and didn’t yet know how to drive, crushed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2: Sarah’s br- broker, who was only twenty and didn’t know how to dr- drip, crasled the car on the side of the st- steps.</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3: Sarah bruvver, who was only twelve and didn’t yet know how to drive, crash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4: Sarah’s brother, who was only twelve and didn’t know how to drive a car, crashed the car on the side of the road.</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5: Sara’s brohther, who was only… twelve? and deedin’t yet k-now…know how to dreeveh…drive, crash the car on the side of the street.</a:t>
            </a:r>
            <a:endParaRPr b="0" lang="en-US" sz="2200" spc="-1" strike="noStrike">
              <a:solidFill>
                <a:srgbClr val="000000"/>
              </a:solidFill>
              <a:latin typeface="Constantia"/>
            </a:endParaRPr>
          </a:p>
          <a:p>
            <a:pPr marL="245520" indent="-24552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cueing systems are these readers using? Which reader(s) would you consider successful? Why? What other information could you use about these children?</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nowing Literacy- Jigsaw</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the Key Concepts Organizer that you filled out for your 3 chapters we will do the follow:</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et with the others who read the same chapt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scuss the 5 key concepts that you each came up with </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 into groups of 4; one of each number in a grou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gsaw each of your sections so that each member of the group has an understanding of each se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epts About Print</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P refers to knowledge of the distinctive features of print text</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ren also develop concepts of other literate forms and how they work (hypertext, downloading, etc)</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any ways, concepts about PRINT is outdated. We should be talking about concepts about literacy.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P will change depending on the writing system of the language</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ren are not born with an understanding of these concept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rocedures for CAP and </a:t>
            </a:r>
            <a:br>
              <a:rPr sz="4500"/>
            </a:br>
            <a:r>
              <a:rPr b="0" lang="en-US" sz="4500" spc="-1" strike="noStrike">
                <a:solidFill>
                  <a:srgbClr val="04617b"/>
                </a:solidFill>
                <a:latin typeface="Calibri"/>
              </a:rPr>
              <a:t>other alternatives</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owse Clay’s CAP, watch vide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iques of the CAP assessment (see Johnston, ch. 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ernatives for assessing CAP</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nt Awareness Checklist (Johnston, pp. 102-103)</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hns &amp; Lenski, p. 87-88</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Six Language Arts</a:t>
            </a: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peak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d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rit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iew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isually Representing</a:t>
            </a:r>
            <a:endParaRPr b="0" lang="en-US" sz="2800" spc="-1" strike="noStrike">
              <a:solidFill>
                <a:srgbClr val="000000"/>
              </a:solidFill>
              <a:latin typeface="Constantia"/>
            </a:endParaRPr>
          </a:p>
          <a:p>
            <a:pPr marL="27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These rarely stand alone, particularly with the advent of new digital literaci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 humans learn language?</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nguage development begins in the womb</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ring mother’s voi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onations, the “sounds” of language</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petition of words and sound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ssages are important; mistakes are not</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ing is the heart of languag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s a risk-free environment for children to experiment with language</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nguage and identity are insepar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mily language and literacy practices vary greatly  and therefore each child’s literacy enculturation is uniq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guage is used for and within specific social pract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ing that literacy acquisition is social, how do we engage students in meaningful, authentic activities and connect with families?</a:t>
            </a:r>
            <a:endParaRPr b="0" lang="en-US" sz="2600" spc="-1" strike="noStrike">
              <a:solidFill>
                <a:srgbClr val="000000"/>
              </a:solidFill>
              <a:latin typeface="Constantia"/>
            </a:endParaRPr>
          </a:p>
        </p:txBody>
      </p:sp>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Acquisition as Social</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Strategies, tools and technologies used to accomplish daily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racteristics of people in an activity; they become a part of a child’s histo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is obtained rather than </a:t>
            </a:r>
            <a:r>
              <a:rPr b="0" i="1" lang="en-US" sz="2600" spc="-1" strike="noStrike">
                <a:solidFill>
                  <a:srgbClr val="000000"/>
                </a:solidFill>
                <a:latin typeface="Constantia"/>
              </a:rPr>
              <a:t>imposed</a:t>
            </a:r>
            <a:r>
              <a:rPr b="0" lang="en-US" sz="2600" spc="-1" strike="noStrike">
                <a:solidFill>
                  <a:srgbClr val="000000"/>
                </a:solidFill>
                <a:latin typeface="Constantia"/>
              </a:rPr>
              <a:t> by ad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ng literacy based on political or institutional discourses limits access of learning to children</a:t>
            </a:r>
            <a:endParaRPr b="0" lang="en-US" sz="2600" spc="-1" strike="noStrike">
              <a:solidFill>
                <a:srgbClr val="000000"/>
              </a:solidFill>
              <a:latin typeface="Constantia"/>
            </a:endParaRPr>
          </a:p>
        </p:txBody>
      </p:sp>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ds of Knowledg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Tami</cp:lastModifiedBy>
  <dcterms:modified xsi:type="dcterms:W3CDTF">2010-01-19T04:19:03Z</dcterms:modified>
  <cp:revision>28</cp:revision>
  <dc:subject/>
  <dc:title>Week 2, June 6th</dc:title>
</cp:coreProperties>
</file>